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4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71C3-50F5-4C6E-B0B4-F321BC20D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objecti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e aware of the essential components of  the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ogra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how to provide reading support at ho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l propósito de ho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 conocer los componentes esenciales del programa de Estrell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prenderán como apoyar a su hijo/hija con la lectura en el hog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DB01-EE83-462C-8AAF-3225662ED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 we’re going to be shifting into the second component of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Blending: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ilabas, palabras, y or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hora vamos hablar sobre el segundo componente de Estrell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l mezclar los sonidos iniciales con otros sonidos  se forman s</a:t>
            </a:r>
            <a:r>
              <a:rPr b="0" i="1" lang="es-MX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abas, palabras y oraciones, por ejemplo el sonido de “a” cuando se forma con los sonidos de “jo” forma la palabra “ajo.”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Oración:  “Yo tengo un ajo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42D4-188D-4AD2-8B99-A7378EC8F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o parents that this system of monitoring student progress is structured the same as in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Sonidos Iniciales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enefi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lows students to participate at their own rate. (Teachers respond to students at their point of n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know their own learning objective (developing independence). (Teachers create an individualized plan for each stud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teacher to monitor student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Los Beneficio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os estudiantes participen a su propio ni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os estudiantes saben su propias metas de aprendiz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a maestra supervise el progreso del alum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DFE-5F0A-4372-A023-EEBD561B2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gram also has a writing compone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any aspects of writing addressed i.e.  printing upper/lowercase letters, forming sounds, and spelling dic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allow your child to have a copy of the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onidos Inicial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to reference when wr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te programa también tiene el componente de apoyo en la escritur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Hay muchos aspectos de la escritura. Por ejemplo los estudiantes comienzan a escribir los sonidos que están estudiando para formar palabras y oraciones. También ayuda distinguir las letras minúsculas y may</a:t>
            </a:r>
            <a:r>
              <a:rPr b="0" i="1" lang="es-MX" sz="1200" spc="-1" strike="noStrike">
                <a:solidFill>
                  <a:srgbClr val="000000"/>
                </a:solidFill>
                <a:latin typeface="Georgia"/>
              </a:rPr>
              <a:t>ú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cula, para poder usarlas apropiadamen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u hijo/a  debe tener una copia de los Sonidos Iniciales para apoyarlos durante la escritu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63D-4AFA-469C-BA78-9B1940BF8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to parents that a team effort is necessary to support academic succe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C78-C9FD-4B20-B1D1-8509D26D0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C665-3BBF-4727-A0D2-E346ED8BD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the agenda with the par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9835-F6C1-4740-90C3-885659479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 is to activate the parents’ prior knowledge regarding a childhood memory of a special reading exper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parents share with someone and then ask for volunteers to shar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C7D-E1C9-4536-B95A-A8A62D66D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accelerated, systematic, &amp; explicit phonic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key to unlocking decoding skills for beginning read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organized by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onido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Blending (which includes: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ba, palabra y oración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 un programa acelerado, sistemático, &amp; explícito de la lectura fonétic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 la llave que habré las habilidades a los lectores principiantes para aprendan a l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trellita está organizado de dos componen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-  los Sonidos Iniciales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-  la mezcla de Sonidos Iniciales con otros sonidos  (la mezcla de sonidos van formando: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s-MX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abas, palabras y oracio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B42-CF5D-4F02-839E-A3D6DD810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 of this slide is to tie phonic skills into meaningful language experi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trellita ayuda a incrementar las habilidades de la lectura foné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poyen a sus hijos en las tareas.  Por ejemplo, identificando los sonidos iniciales al nombrar objetos que se encuentran en casa.  Así pueden conectar el programa Estrellita con la lectura en c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as experiencias serán positivas para los niños en el proceso de aprender a l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0F72-1BCC-4E81-977E-A75AE8C58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 I’ll begin by discussing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mponent of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efer to </a:t>
            </a:r>
            <a:r>
              <a:rPr b="0" lang="es-MX" sz="1200" spc="-1" strike="noStrike" u="sng">
                <a:solidFill>
                  <a:srgbClr val="000000"/>
                </a:solidFill>
                <a:uFillTx/>
                <a:latin typeface="Calibri"/>
              </a:rPr>
              <a:t>Sonidos Inicial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hart: deconstruct the 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o sound (reinforces meaning and s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ver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vided into segments, each containing a group of letters taught toge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: Sound bud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case letters are emphasized because these are the letters students will encounter most when they’re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hora, vamos a ver el primer componente de Estrelli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Vean la imagen y la letra junto a ella. Se pronuncia el sonido inicial de la ima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Se lee verticalmen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Se divide en segmentos. Cada segmento contiene un grupo de letras que se ense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ñ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 al mismo tiemp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Contiene letras compa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ñ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ras.   Por ejemplo s, z, c, que producen el mismo son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Se acentúan las letras minúsculas porque éstas son las que los estudiantes encontrarán la mayoría de las veces cuando están leyen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3C9E-62EE-4154-B7B7-8E9D21DDC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corporates a variety of modalities for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mphasizes the visual, the auditory, and the kines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trellita incorpora las diferentes modalidades que ayudan a facilitar el aprendiz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9B98-B431-45D3-A826-D428AB5F6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participation: everyone stands up and chants with hand mov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onidos Iniciale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dividual Student Ch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ach 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512-0FD6-440A-A99C-49A5F4E4B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enefits of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lows students to participate at their own rate. (Teachers respond to students at their point of n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know their own learning objective (developing independence). (Teachers create an individualized plan for each stude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teacher to monitor student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os Beneficios de Estrell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os estudiantes participen a su propio ni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os estudiantes tendrán metas individuales de acuerdo al progreso de cada 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a maestra supervise el progreso del alum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DC61-6BFE-44EC-9E9A-ACB3EAC78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655-F732-4F6E-B934-84EC77DB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137-E5D5-4C30-A19B-6E410CFB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632A7-D51A-4333-86EC-F7E18BF7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19703-77BB-40A2-B301-AA3501AE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3F18C-682E-4CE2-88AC-C0596798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35B49-3770-4B23-8A51-1CBC99A1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0D565-94AD-4627-8CEF-7E88390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63205-E6E4-4288-8B01-8E8C9BC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BB3CE-8DDE-49CC-B932-003EE85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D5B40-5C16-4DBB-90DD-9C72B8BE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8A79E-1CF7-4A66-9773-62D0D871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47D3D-3F72-484F-822D-75877D0C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F6F-9961-4E45-860E-AC04BECB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5BFE1-3268-46BE-8E47-A26D0214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70962-4104-4CD5-824C-079D679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8ACBE-FC5D-45F3-A368-81A6B100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9B900-B279-445B-8052-43E221BB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73282-3934-4B64-B1C3-159CB27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80D9E-7559-4752-BFB9-F64999E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0AF59-F0C0-48A5-96D0-8D07628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E4601-40E9-4959-81D0-2BB12445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AF579-A76F-4568-88C1-402E610B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54044-8433-44CB-A4C5-8BAB2A6F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280-A100-4F69-AEDC-6F88BB0B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8A990-51A2-4036-85CB-1E9E5A07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7EE46-CA2C-4D62-B152-C7EBA04B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7941D-3356-4CE1-ADA9-CCE3EBE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62A2C-D25B-4215-BAD7-CAF0681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880DA-C0E3-44E2-9F31-AC8C61C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25DD-FE4A-48EA-BB85-871C30D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3D672-7F33-4EF8-89A0-E6AEFA5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680F-51F5-45BC-B0B5-4DBB4E7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1B4C2-115B-498F-8B92-CBA72A6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FD70C-C099-401D-B85A-B9467B3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DEB-D1F2-406E-A883-DE7B54D2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70D95-EEEA-4401-AB0F-4FFCFC9B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ACE65-35C2-4916-94A2-6F374730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4E618-EE6E-42CB-9A7B-8B7FD54D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33FFE-6DE1-47E7-A570-3CC927DD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1C013-4177-47B6-A562-FF3C755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67810-3346-4179-A58B-2DFC2C15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16426-7407-4130-A43C-31340037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EB14B-D64F-4C22-BE85-509E33C0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2EE1F-E5E0-491B-A2C3-5B14458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8D449-8A90-4875-9C9B-CD98B4D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10CA-0635-4880-8F95-7DFA2FC3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985CB-50DD-4506-A56F-3B26D73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E0443-CAE1-48A5-87F3-94E4810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B5882-FCF5-4604-B95C-018B986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EA73C-B410-4145-8357-C6E10A1E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E926E-F556-4699-97F1-30E74C86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6AC-2FD8-4AA8-9005-CD0A960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77E9-8C69-450E-AAC9-6E6ADCB1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29BD-F570-4A02-9AAF-C86F40D8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F98-B9FF-44C2-819B-020E2DD7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2AA1-9A38-44C3-86C8-D9019A3F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6C2-ABB4-4A4A-99B1-C8703652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9688-12F0-49C0-A51E-04A4A9F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E75-98BE-4352-981A-7A88F617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72CE-2D6B-47DD-8BFC-4E65546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AD39-BD13-478B-9EA9-547E66E8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D7E7-CE5B-42BA-8D10-F85A95A2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6824-AB7D-4B2C-B1AE-03589C04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C41C-E250-4E60-879D-D6290D1A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8171-7FEA-4E39-84B4-6464F0A5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3F18-55FD-4788-B348-73520B7C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EA94-56B5-45C6-8A28-23978306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AF9-DF10-4F5A-9EF3-B55DC6C6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EE3E-6E6A-4EEC-AE6C-B67C0FC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2B62-790A-402F-BD45-7E7A136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E9C4-C024-4A67-8DA5-CCB3A31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5A70-3491-483D-A78D-6E81B98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463A-32A1-4328-875A-04A8F53B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84E4-FBA7-4FC2-98BA-3D5B0332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354C-CC8B-4FE6-A387-EA794661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15A8-E4B9-4737-9685-65E50D2B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C654-2DF7-42B4-BEFE-671EF53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B575-F44D-48CF-BE25-FF4D51E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836-FD55-4800-99BD-F21B1B52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B354-B01C-4E3E-894C-F29BAB0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1133-F174-46FB-AFBC-D091566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55998-E350-4A8F-B2C7-4B2DF0B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719A-F0B6-48D7-B7FD-1B5E35A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3EA3-D7F1-4D91-848E-AD57505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95678-0D13-4693-B7C1-F65B5B9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3684-EFBC-4D15-BD2F-525D621D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E219F-BC35-41A7-95C9-6FC40FC8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8C57-22AD-435E-8726-56EDCA4B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C2BC-4F33-4FE9-A459-7BB0AED3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266-7757-47D5-9E4B-471DADD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6E9E-E498-40BC-8180-FCB66AED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E204-550F-4E41-8CEA-F845A33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0A14-8531-4E49-924E-380DC58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F00F-419A-4635-B2C4-A703F8BB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13AA-558B-4417-AE53-AF16AA7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F4B3-DE47-4F49-91B9-C5334B5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FE1C-5F27-4709-891A-DD56BEE6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5F12-D191-4DC5-BD5C-52F9866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A129-5AF6-4B24-A0F4-F5C3B5EC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552F-1FAB-4136-A5C1-7FB554E0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F12-848A-4E70-9B7E-42842209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6AE9-31DC-44EA-94D4-87B56FE0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FC76-81FE-4FCC-AA21-030CF1AF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E4B9-F739-4602-BED3-A1043FB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8BB0C-D3DE-4156-AD28-E0CAF82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508D-327D-496A-A97B-0E318823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84BA6-BE8C-4E1A-AE21-C6ABEBB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3E789-3AFB-4893-994C-0F734FD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705B-FFD9-417A-B68D-4B62E31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5323-FE43-404A-BCE3-326F0421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24306-1C54-4686-A86A-2056AAD3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3F8-5F33-47F3-A381-D840EB96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A0AB0-9B1F-4E7E-9E01-2AE4D4A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2BF1-A662-47D9-B404-C7CFDC25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66B3-C8B9-4286-8B1F-15CF09AA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720F-0BE5-48C9-9FDC-8206B643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A3492-80DA-4608-A205-7B44022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E8AE-8A4C-464F-B2C1-5708ADD0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E0CFD-3BBA-4204-9A02-A961696E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3260-17A7-4A49-AAA6-B3D617B7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3A71-00DA-4D07-A0B0-AF943F3E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D1E7A-3521-4F8F-988C-B6191AE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6B5-04E4-4638-9225-1C1987CA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45C8-13D2-4436-85CF-C1854DE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2CBA-3774-42D8-9718-62D789D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5CCC-56D1-47AF-A06C-EF24783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FFF86-28C1-49F3-ACBE-35AEB66A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3AC9-5702-43AA-BC4C-CE300647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E05B3-04C7-4EB9-89E0-1EA94C19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9592B-773A-4A40-806F-FC26D24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60AD-EF6B-495B-B1D9-8454362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4064-2CB4-4CEC-BEA7-44F85D3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D851-D0CF-46FE-A5CF-92D9601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DA0-2F25-4FA2-A8A2-CC7BEB6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1A7F8-368A-4FDA-9DAF-8F94F31D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530D9-039F-4CA4-B325-7C54F51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F170E-4C4F-4693-A2AE-7B5BECA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287F-9761-4F84-B439-D8F02CD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36A86-596B-4396-AD0C-64FE498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6AA53-1F4D-4ADE-A925-DE33F6CB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31F9-66B4-4CC6-BF97-D8630DFB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2B489-6D36-4E15-9087-1C5DCDF2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F3CB1-D8EC-415A-8387-A683E7CB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22936-4E19-49D9-8365-846809F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3B6-94F6-42A7-9E51-03745F4BDF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66A0-7FA6-4AD4-8496-9FEDF3B2BE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6908-C476-40E1-A9C8-639243BDDD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CF2C-3F9C-4DA7-87D0-142B77F713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20C-A860-4D1D-9FBD-395E1449AE9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9B4-E839-4879-8CCB-BFBDF711D8F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975-1C1E-4DE9-8E6D-24915D545CC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BC9-E65B-41E0-A822-2278558B35C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998C-F506-4034-B743-CF2A845DA4E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4AE6-5E1B-4016-8B20-E53630E751E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1BE9-A60F-4269-BECC-3400B3D6EEC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0EC-000C-478A-8A63-D4584C577B4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6349"/>
                </a:solidFill>
                <a:latin typeface="Georgia"/>
              </a:rPr>
              <a:t>Estrellit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66320" y="1523520"/>
            <a:ext cx="7620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7" descr="http://www.waynecountyschools.org/334/lib/334/STAR.jpg"/>
          <p:cNvPicPr/>
          <p:nvPr/>
        </p:nvPicPr>
        <p:blipFill>
          <a:blip r:embed="rId1"/>
          <a:stretch/>
        </p:blipFill>
        <p:spPr>
          <a:xfrm>
            <a:off x="2627280" y="1905120"/>
            <a:ext cx="3457440" cy="3908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http://www.estrellita.com/images/logo.gif"/>
          <p:cNvPicPr/>
          <p:nvPr/>
        </p:nvPicPr>
        <p:blipFill>
          <a:blip r:embed="rId2"/>
          <a:stretch/>
        </p:blipFill>
        <p:spPr>
          <a:xfrm>
            <a:off x="3882960" y="3133800"/>
            <a:ext cx="14940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7b9899"/>
                </a:solidFill>
                <a:latin typeface="Georgia"/>
              </a:rPr>
              <a:t>Mezclando Sonidos Iniciales Con Otros Sonido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3" name="Content Placeholder 3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85662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0" descr="http://startupblog.files.wordpress.com/2008/01/manila-envelope.jpg"/>
          <p:cNvPicPr/>
          <p:nvPr/>
        </p:nvPicPr>
        <p:blipFill>
          <a:blip r:embed="rId1"/>
          <a:srcRect l="13157" t="13538" r="13157" b="13161"/>
          <a:stretch/>
        </p:blipFill>
        <p:spPr>
          <a:xfrm>
            <a:off x="4724280" y="1600200"/>
            <a:ext cx="3353040" cy="46702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9899"/>
                </a:solidFill>
                <a:latin typeface="Georgia"/>
              </a:rPr>
              <a:t>Mezclando Sonidos: la supervisión del progreso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2"/>
          <a:stretch/>
        </p:blipFill>
        <p:spPr>
          <a:xfrm>
            <a:off x="7392960" y="1676520"/>
            <a:ext cx="1446120" cy="186984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7" name="Content Placeholder 3"/>
          <p:cNvSpPr/>
          <p:nvPr/>
        </p:nvSpPr>
        <p:spPr>
          <a:xfrm>
            <a:off x="304920" y="1676520"/>
            <a:ext cx="4114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Palab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O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Cu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5022720" y="2359080"/>
            <a:ext cx="2756160" cy="3743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"/>
          <p:cNvPicPr/>
          <p:nvPr/>
        </p:nvPicPr>
        <p:blipFill>
          <a:blip r:embed="rId4"/>
          <a:stretch/>
        </p:blipFill>
        <p:spPr>
          <a:xfrm rot="16200000">
            <a:off x="6998400" y="4507560"/>
            <a:ext cx="200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Uso de la Escri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7" descr="http://myers.salkeiz.k12.or.us/images/student_writing.jpg"/>
          <p:cNvPicPr/>
          <p:nvPr/>
        </p:nvPicPr>
        <p:blipFill>
          <a:blip r:embed="rId1"/>
          <a:stretch/>
        </p:blipFill>
        <p:spPr>
          <a:xfrm>
            <a:off x="5867280" y="4114800"/>
            <a:ext cx="2921040" cy="1946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http://blog.oregonlive.com/washingtoncounty_impact/2009/04/large_kind1.JPG"/>
          <p:cNvPicPr/>
          <p:nvPr/>
        </p:nvPicPr>
        <p:blipFill>
          <a:blip r:embed="rId2"/>
          <a:stretch/>
        </p:blipFill>
        <p:spPr>
          <a:xfrm>
            <a:off x="366840" y="1905120"/>
            <a:ext cx="3595680" cy="2286000"/>
          </a:xfrm>
          <a:prstGeom prst="rect">
            <a:avLst/>
          </a:prstGeom>
          <a:ln w="0">
            <a:noFill/>
          </a:ln>
        </p:spPr>
      </p:pic>
      <p:pic>
        <p:nvPicPr>
          <p:cNvPr id="663" name="Diagram 11" descr=""/>
          <p:cNvPicPr/>
          <p:nvPr/>
        </p:nvPicPr>
        <p:blipFill>
          <a:blip r:embed="rId3"/>
          <a:stretch/>
        </p:blipFill>
        <p:spPr>
          <a:xfrm>
            <a:off x="2273400" y="2359080"/>
            <a:ext cx="4219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Apoy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14" descr="http://www.rcowen.com/RCOADVPic/ParentChildReadingrs.jpg"/>
          <p:cNvPicPr/>
          <p:nvPr/>
        </p:nvPicPr>
        <p:blipFill>
          <a:blip r:embed="rId1"/>
          <a:stretch/>
        </p:blipFill>
        <p:spPr>
          <a:xfrm>
            <a:off x="6445080" y="2743200"/>
            <a:ext cx="2165400" cy="1303200"/>
          </a:xfrm>
          <a:prstGeom prst="rect">
            <a:avLst/>
          </a:prstGeom>
          <a:ln w="0">
            <a:noFill/>
          </a:ln>
        </p:spPr>
      </p:pic>
      <p:pic>
        <p:nvPicPr>
          <p:cNvPr id="667" name="Diagram 8" descr=""/>
          <p:cNvPicPr/>
          <p:nvPr/>
        </p:nvPicPr>
        <p:blipFill>
          <a:blip r:embed="rId2"/>
          <a:stretch/>
        </p:blipFill>
        <p:spPr>
          <a:xfrm>
            <a:off x="1822320" y="1865160"/>
            <a:ext cx="5578560" cy="3633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http://www.hewlett.org/uploads/images/deeper_learning.jpg"/>
          <p:cNvPicPr/>
          <p:nvPr/>
        </p:nvPicPr>
        <p:blipFill>
          <a:blip r:embed="rId3"/>
          <a:stretch/>
        </p:blipFill>
        <p:spPr>
          <a:xfrm>
            <a:off x="762120" y="2560680"/>
            <a:ext cx="22701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43000" y="4952520"/>
            <a:ext cx="59720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Nombre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      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Grado</a:t>
            </a:r>
            <a:br>
              <a:rPr sz="20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estr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Bilingü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6" descr="http://www.unbound.co.in/images/support.jpg"/>
          <p:cNvPicPr/>
          <p:nvPr/>
        </p:nvPicPr>
        <p:blipFill>
          <a:blip r:embed="rId1"/>
          <a:stretch/>
        </p:blipFill>
        <p:spPr>
          <a:xfrm>
            <a:off x="3962520" y="9144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Orden del Dí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Dar la bienven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Establecer el contexto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Sonidos Inicia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antar los sonidos iniciales con los movimientos de la man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La supervisión del progreso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Mezclando sonidos iniciales con otros sonidos       (sílabas, palabras, oraci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La supervisión del progreso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Uso de la escritura</a:t>
            </a:r>
            <a:r>
              <a:rPr b="0" lang="es-MX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¿Quiénes son los que apoya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Reflex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20" descr="http://www.lafayettecountyhealth.org/MomChild.jpg"/>
          <p:cNvPicPr/>
          <p:nvPr/>
        </p:nvPicPr>
        <p:blipFill>
          <a:blip r:embed="rId1"/>
          <a:stretch/>
        </p:blipFill>
        <p:spPr>
          <a:xfrm>
            <a:off x="2209680" y="3200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Parent and child reading together"/>
          <p:cNvPicPr/>
          <p:nvPr/>
        </p:nvPicPr>
        <p:blipFill>
          <a:blip r:embed="rId2"/>
          <a:stretch/>
        </p:blipFill>
        <p:spPr>
          <a:xfrm>
            <a:off x="4881600" y="3886200"/>
            <a:ext cx="1747800" cy="22716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30492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d16349"/>
                </a:solidFill>
                <a:latin typeface="Arial"/>
              </a:rPr>
              <a:t>Comparta una memoria de la niñez de una experiencia especial de la lectu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eorgia"/>
              </a:rPr>
              <a:t>¿Qué es Estrellita?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9" descr="http://www.fancyamortgage.co.uk/Page_Category_Images/key%20worker.jpg"/>
          <p:cNvPicPr/>
          <p:nvPr/>
        </p:nvPicPr>
        <p:blipFill>
          <a:blip r:embed="rId1"/>
          <a:srcRect l="41412" t="0" r="5892" b="0"/>
          <a:stretch/>
        </p:blipFill>
        <p:spPr>
          <a:xfrm>
            <a:off x="3124080" y="2895480"/>
            <a:ext cx="2590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Integración de Estrelli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7" descr="http://www.wrapables.com/images/product/A54817.jpg"/>
          <p:cNvPicPr/>
          <p:nvPr/>
        </p:nvPicPr>
        <p:blipFill>
          <a:blip r:embed="rId1"/>
          <a:stretch/>
        </p:blipFill>
        <p:spPr>
          <a:xfrm>
            <a:off x="2666880" y="2438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eorgia"/>
              </a:rPr>
              <a:t>Sonidos Inicial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\\prdechome03\users\other\116706\My Documents\My Pictures\Estrellita Pictures\IMG_0923.JPG"/>
          <p:cNvPicPr/>
          <p:nvPr/>
        </p:nvPicPr>
        <p:blipFill>
          <a:blip r:embed="rId1"/>
          <a:srcRect l="7034" t="7549" r="3020" b="9183"/>
          <a:stretch/>
        </p:blipFill>
        <p:spPr>
          <a:xfrm>
            <a:off x="3962520" y="1066680"/>
            <a:ext cx="4038480" cy="498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Sonidos Iniciales y Los Senti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4" descr="MPj03091660000[1]"/>
          <p:cNvPicPr/>
          <p:nvPr/>
        </p:nvPicPr>
        <p:blipFill>
          <a:blip r:embed="rId1"/>
          <a:stretch/>
        </p:blipFill>
        <p:spPr>
          <a:xfrm>
            <a:off x="5479920" y="4400640"/>
            <a:ext cx="3444840" cy="193356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11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9" descr="http://www.idaholions.org/images/eyes.jpg"/>
          <p:cNvPicPr/>
          <p:nvPr/>
        </p:nvPicPr>
        <p:blipFill>
          <a:blip r:embed="rId2"/>
          <a:stretch/>
        </p:blipFill>
        <p:spPr>
          <a:xfrm>
            <a:off x="360360" y="1517760"/>
            <a:ext cx="4522680" cy="2859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http://ultimateears.com/uploads/assets/products/500/ultimate-ears-500_5.jpg"/>
          <p:cNvPicPr/>
          <p:nvPr/>
        </p:nvPicPr>
        <p:blipFill>
          <a:blip r:embed="rId3"/>
          <a:stretch/>
        </p:blipFill>
        <p:spPr>
          <a:xfrm>
            <a:off x="3651120" y="3273480"/>
            <a:ext cx="24512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eorgia"/>
              </a:rPr>
              <a:t>Sonidos Inicial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\\prdechome03\users\other\116706\My Documents\My Pictures\Estrellita Pictures\IMG_0923.JPG"/>
          <p:cNvPicPr/>
          <p:nvPr/>
        </p:nvPicPr>
        <p:blipFill>
          <a:blip r:embed="rId1"/>
          <a:srcRect l="7034" t="7549" r="3020" b="9183"/>
          <a:stretch/>
        </p:blipFill>
        <p:spPr>
          <a:xfrm>
            <a:off x="3962520" y="1066680"/>
            <a:ext cx="4038480" cy="498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onidos Iniciales: </a:t>
            </a: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Tar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10" descr="http://startupblog.files.wordpress.com/2008/01/manila-envelope.jpg"/>
          <p:cNvPicPr/>
          <p:nvPr/>
        </p:nvPicPr>
        <p:blipFill>
          <a:blip r:embed="rId1"/>
          <a:srcRect l="13157" t="13538" r="13157" b="13161"/>
          <a:stretch/>
        </p:blipFill>
        <p:spPr>
          <a:xfrm>
            <a:off x="685800" y="1600200"/>
            <a:ext cx="3352680" cy="4670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"/>
          <p:cNvPicPr/>
          <p:nvPr/>
        </p:nvPicPr>
        <p:blipFill>
          <a:blip r:embed="rId2"/>
          <a:stretch/>
        </p:blipFill>
        <p:spPr>
          <a:xfrm>
            <a:off x="1060560" y="2359080"/>
            <a:ext cx="2670120" cy="3591000"/>
          </a:xfrm>
          <a:prstGeom prst="rect">
            <a:avLst/>
          </a:prstGeom>
          <a:ln w="0">
            <a:noFill/>
          </a:ln>
        </p:spPr>
      </p:pic>
      <p:sp>
        <p:nvSpPr>
          <p:cNvPr id="641" name="Oval 4"/>
          <p:cNvSpPr/>
          <p:nvPr/>
        </p:nvSpPr>
        <p:spPr>
          <a:xfrm>
            <a:off x="1371600" y="2666880"/>
            <a:ext cx="609480" cy="1067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5-Point Star 6"/>
          <p:cNvSpPr/>
          <p:nvPr/>
        </p:nvSpPr>
        <p:spPr>
          <a:xfrm>
            <a:off x="1143000" y="266688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5-Point Star 7"/>
          <p:cNvSpPr/>
          <p:nvPr/>
        </p:nvSpPr>
        <p:spPr>
          <a:xfrm>
            <a:off x="1143000" y="358128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-Point Star 8"/>
          <p:cNvSpPr/>
          <p:nvPr/>
        </p:nvSpPr>
        <p:spPr>
          <a:xfrm>
            <a:off x="1143000" y="434340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2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257640" cy="4206960"/>
          </a:xfrm>
          <a:prstGeom prst="rect">
            <a:avLst/>
          </a:prstGeom>
          <a:ln w="0">
            <a:noFill/>
          </a:ln>
        </p:spPr>
      </p:pic>
      <p:sp>
        <p:nvSpPr>
          <p:cNvPr id="646" name="Oval 10"/>
          <p:cNvSpPr/>
          <p:nvPr/>
        </p:nvSpPr>
        <p:spPr>
          <a:xfrm>
            <a:off x="5638680" y="2225520"/>
            <a:ext cx="762120" cy="1067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5-Point Star 11"/>
          <p:cNvSpPr/>
          <p:nvPr/>
        </p:nvSpPr>
        <p:spPr>
          <a:xfrm>
            <a:off x="5257800" y="214956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5-Point Star 12"/>
          <p:cNvSpPr/>
          <p:nvPr/>
        </p:nvSpPr>
        <p:spPr>
          <a:xfrm>
            <a:off x="5257800" y="313992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5-Point Star 13"/>
          <p:cNvSpPr/>
          <p:nvPr/>
        </p:nvSpPr>
        <p:spPr>
          <a:xfrm>
            <a:off x="5257800" y="405432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4"/>
          <p:cNvSpPr/>
          <p:nvPr/>
        </p:nvSpPr>
        <p:spPr>
          <a:xfrm>
            <a:off x="304920" y="1447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Georgia"/>
              </a:rPr>
              <a:t>Ho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4952880" y="1447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 </a:t>
            </a:r>
            <a:r>
              <a:rPr b="1" lang="es-MX" sz="3200" spc="-1" strike="noStrike">
                <a:solidFill>
                  <a:srgbClr val="000000"/>
                </a:solidFill>
                <a:latin typeface="Georgia"/>
              </a:rPr>
              <a:t>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5:55:39Z</dcterms:created>
  <dc:creator>116706</dc:creator>
  <dc:description/>
  <dc:language>en-US</dc:language>
  <cp:lastModifiedBy>116706</cp:lastModifiedBy>
  <dcterms:modified xsi:type="dcterms:W3CDTF">2011-02-22T20:43:15Z</dcterms:modified>
  <cp:revision>392</cp:revision>
  <dc:subject/>
  <dc:title>Estrellita</dc:title>
</cp:coreProperties>
</file>